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7FE8-2AFC-4E90-AD06-77B4DF88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E0B9-BFE9-4F29-ABAE-DC85056F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FCC-66BC-45F9-B01D-95F824A4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9FA-D7B6-4D54-9CD9-0EE13BF7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EA1-9ADA-4A84-8FD6-4842A5A5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93E-4945-4C38-9613-668C074B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1697-3801-49E7-9F1C-F0296634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D58E-0F2D-4BA6-B540-60D44210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4DFD-76F8-4F5F-9118-0A1C927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9332-D7E7-404A-B183-F0C18B17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D2BD-BB76-4954-B348-8B403095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B61-4295-46EB-A020-AABF5D1B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8DF-1182-44F9-9E28-9504898A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C9FC-A18E-42AE-9A9B-3864E4D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A23D-8BE3-4D90-A628-ADA1AD4B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6C71-A111-47B2-B41E-DB8DA9DE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44FB-7F3B-4243-B341-17E7B552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BF4B-ED46-4536-8286-ACCC1133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6B6-1041-45EB-8F66-F0B76351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EE4-46F4-4CAD-94C8-9921F75E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FFBB-FFF7-403A-8E26-9B7722AE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AB0-16F0-40D2-946A-1936B779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396-510B-4D41-B0E0-D12EB7F1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5C7-5C9F-497B-84BC-544B8F94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A9E-485C-44B5-B8FB-3DF48ADB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E008-4A55-428F-8D7D-DC8E1B1A842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877-B7C9-47EE-83B8-AB2CD164652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netian Archite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5520" y="4114800"/>
            <a:ext cx="2514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manda Conn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nathan Mart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athan Starb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bruary 27, 2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 Chie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635360" cy="32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 Maria Gloriosa dei Frar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250-133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rancisc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urch Orient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vefr4" descr=""/>
          <p:cNvPicPr/>
          <p:nvPr/>
        </p:nvPicPr>
        <p:blipFill>
          <a:blip r:embed="rId1"/>
          <a:stretch/>
        </p:blipFill>
        <p:spPr>
          <a:xfrm>
            <a:off x="4419720" y="2813040"/>
            <a:ext cx="4038480" cy="2908440"/>
          </a:xfrm>
          <a:prstGeom prst="rect">
            <a:avLst/>
          </a:prstGeom>
          <a:ln w="0">
            <a:noFill/>
          </a:ln>
        </p:spPr>
      </p:pic>
      <p:pic>
        <p:nvPicPr>
          <p:cNvPr id="147" name="frari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217512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 Chie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 Maria dei Miracol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481-148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ietro Lombar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uole Gran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netian El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miracoli" descr=""/>
          <p:cNvPicPr/>
          <p:nvPr/>
        </p:nvPicPr>
        <p:blipFill>
          <a:blip r:embed="rId1"/>
          <a:stretch/>
        </p:blipFill>
        <p:spPr>
          <a:xfrm>
            <a:off x="1279440" y="1665360"/>
            <a:ext cx="264636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interior%20San%20Maria%20dei%20Miracoli" descr=""/>
          <p:cNvPicPr/>
          <p:nvPr/>
        </p:nvPicPr>
        <p:blipFill>
          <a:blip r:embed="rId2"/>
          <a:stretch/>
        </p:blipFill>
        <p:spPr>
          <a:xfrm>
            <a:off x="1066680" y="1676520"/>
            <a:ext cx="311796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 Chie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 Giorgio Maggio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6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lladio/Sorel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distant" descr=""/>
          <p:cNvPicPr/>
          <p:nvPr/>
        </p:nvPicPr>
        <p:blipFill>
          <a:blip r:embed="rId1"/>
          <a:stretch/>
        </p:blipFill>
        <p:spPr>
          <a:xfrm>
            <a:off x="4660920" y="2577960"/>
            <a:ext cx="3809880" cy="2287800"/>
          </a:xfrm>
          <a:prstGeom prst="rect">
            <a:avLst/>
          </a:prstGeom>
          <a:ln w="0">
            <a:noFill/>
          </a:ln>
        </p:spPr>
      </p:pic>
      <p:pic>
        <p:nvPicPr>
          <p:cNvPr id="155" name="intvert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816280" cy="3770280"/>
          </a:xfrm>
          <a:prstGeom prst="rect">
            <a:avLst/>
          </a:prstGeom>
          <a:ln w="0">
            <a:noFill/>
          </a:ln>
        </p:spPr>
      </p:pic>
      <p:pic>
        <p:nvPicPr>
          <p:cNvPr id="156" name="frontangle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3154320" cy="38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mand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988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 Palazz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 Piazz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 Chi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Venice%201" descr=""/>
          <p:cNvPicPr/>
          <p:nvPr/>
        </p:nvPicPr>
        <p:blipFill>
          <a:blip r:embed="rId1"/>
          <a:stretch/>
        </p:blipFill>
        <p:spPr>
          <a:xfrm>
            <a:off x="4660920" y="2612880"/>
            <a:ext cx="380988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Palazz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istic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nd/Water Entra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iano Nob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gol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rt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rbacan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Venice%209%20-%20Pal%20%20Cavalli%20Franchetti" descr=""/>
          <p:cNvPicPr/>
          <p:nvPr/>
        </p:nvPicPr>
        <p:blipFill>
          <a:blip r:embed="rId1"/>
          <a:stretch/>
        </p:blipFill>
        <p:spPr>
          <a:xfrm>
            <a:off x="1231920" y="166536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Venice%2012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4113000" cy="27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Palazz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tructi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r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rteg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irca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ezzani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razzo Floor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rracotta Tiled Roof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Venice%2018%20Aerial" descr=""/>
          <p:cNvPicPr/>
          <p:nvPr/>
        </p:nvPicPr>
        <p:blipFill>
          <a:blip r:embed="rId1"/>
          <a:stretch/>
        </p:blipFill>
        <p:spPr>
          <a:xfrm>
            <a:off x="4660920" y="2295360"/>
            <a:ext cx="3809880" cy="2854440"/>
          </a:xfrm>
          <a:prstGeom prst="rect">
            <a:avLst/>
          </a:prstGeom>
          <a:ln w="0">
            <a:noFill/>
          </a:ln>
        </p:spPr>
      </p:pic>
      <p:pic>
        <p:nvPicPr>
          <p:cNvPr id="122" name="Venice%2016%20Pal%20Civran" descr=""/>
          <p:cNvPicPr/>
          <p:nvPr/>
        </p:nvPicPr>
        <p:blipFill>
          <a:blip r:embed="rId2"/>
          <a:stretch/>
        </p:blipFill>
        <p:spPr>
          <a:xfrm>
            <a:off x="5257800" y="1905120"/>
            <a:ext cx="273384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Palazz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velopmen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zant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th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naiss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roq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Venice%2017%20Ca'%20da%20Oro" descr=""/>
          <p:cNvPicPr/>
          <p:nvPr/>
        </p:nvPicPr>
        <p:blipFill>
          <a:blip r:embed="rId1"/>
          <a:stretch/>
        </p:blipFill>
        <p:spPr>
          <a:xfrm>
            <a:off x="1239840" y="1665360"/>
            <a:ext cx="272556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Venice%2018%20Pal%20Papadopoli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2852640" cy="4305240"/>
          </a:xfrm>
          <a:prstGeom prst="rect">
            <a:avLst/>
          </a:prstGeom>
          <a:ln w="0">
            <a:noFill/>
          </a:ln>
        </p:spPr>
      </p:pic>
      <p:pic>
        <p:nvPicPr>
          <p:cNvPr id="127" name="Venice%2021%20Fondaco%20dei%20Turchi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3976560" cy="2936880"/>
          </a:xfrm>
          <a:prstGeom prst="rect">
            <a:avLst/>
          </a:prstGeom>
          <a:ln w="0">
            <a:noFill/>
          </a:ln>
        </p:spPr>
      </p:pic>
      <p:pic>
        <p:nvPicPr>
          <p:cNvPr id="128" name="Venice%2021%20Pal%20Pesaro" descr=""/>
          <p:cNvPicPr/>
          <p:nvPr/>
        </p:nvPicPr>
        <p:blipFill>
          <a:blip r:embed="rId4"/>
          <a:stretch/>
        </p:blipFill>
        <p:spPr>
          <a:xfrm>
            <a:off x="457200" y="1905120"/>
            <a:ext cx="4122720" cy="32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 Piaz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yout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l Palazz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hie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ort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ampan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Venice%202" descr=""/>
          <p:cNvPicPr/>
          <p:nvPr/>
        </p:nvPicPr>
        <p:blipFill>
          <a:blip r:embed="rId1"/>
          <a:stretch/>
        </p:blipFill>
        <p:spPr>
          <a:xfrm>
            <a:off x="974880" y="1665360"/>
            <a:ext cx="3257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 Piaz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66880" y="1676160"/>
            <a:ext cx="381024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ge’s Pa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doges" descr=""/>
          <p:cNvPicPr/>
          <p:nvPr/>
        </p:nvPicPr>
        <p:blipFill>
          <a:blip r:embed="rId1"/>
          <a:stretch/>
        </p:blipFill>
        <p:spPr>
          <a:xfrm>
            <a:off x="4724280" y="2971800"/>
            <a:ext cx="3810240" cy="2787480"/>
          </a:xfrm>
          <a:prstGeom prst="rect">
            <a:avLst/>
          </a:prstGeom>
          <a:ln w="0">
            <a:noFill/>
          </a:ln>
        </p:spPr>
      </p:pic>
      <p:pic>
        <p:nvPicPr>
          <p:cNvPr id="135" name="dogesclose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36558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 Piaz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19360" y="1676520"/>
            <a:ext cx="3809880" cy="38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ampan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tch To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ve Bel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dorn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campinele_lg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41308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95320" y="13712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 Piaz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sanmarco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3809520"/>
            <a:ext cx="3504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Chie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zantine Fea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manesque/Gr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ligious Cen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topsanmarco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43" name="DSCF0655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5T23:59:24Z</dcterms:created>
  <dc:creator>Instructional Media Center</dc:creator>
  <dc:description/>
  <dc:language>en-US</dc:language>
  <cp:lastModifiedBy>Jonathan Martin</cp:lastModifiedBy>
  <dcterms:modified xsi:type="dcterms:W3CDTF">2001-02-27T22:16:41Z</dcterms:modified>
  <cp:revision>17</cp:revision>
  <dc:subject/>
  <dc:title> Venetian Architecture</dc:title>
</cp:coreProperties>
</file>