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9FF-2124-4580-8B5D-E35D5EC7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A25-D1F9-43A2-AEBC-A108ECD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C0F-7333-4AE4-A4EC-09413C73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20B-55B0-4065-B2B2-FCED993E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67F-EF0F-4B8B-9ABC-5C6DD3B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5EF-102E-444F-92EE-1CAFAFF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60A-E07D-4483-ACA1-AECECFE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07D-0EF8-4A62-BBF4-36A18D3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9F6-0754-4D10-AB95-B74BAA7C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A0E-1213-4787-9F86-0BCD708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E4F-50E6-459A-8F31-CBBFAA9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20C-696E-4690-8AE0-07CF35E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B7D-6ED4-49F5-817B-F853BABBE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Location, Location, 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5110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5880" y="5257800"/>
            <a:ext cx="1067040" cy="380880"/>
          </a:xfrm>
          <a:prstGeom prst="wedgeRectCallout">
            <a:avLst>
              <a:gd name="adj1" fmla="val -231250"/>
              <a:gd name="adj2" fmla="val -1279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I Cent. Trad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blic Relations “Scoop”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mperor and Pope Summit, 11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5686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00-1200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35766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00-1200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V Crusad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04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po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9616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are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A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6160" y="2008080"/>
            <a:ext cx="41702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goon &amp; Surrounding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50-950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ad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0-1000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6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3124080"/>
            <a:ext cx="4419360" cy="2210040"/>
          </a:xfrm>
          <a:custGeom>
            <a:avLst/>
            <a:gdLst/>
            <a:ahLst/>
            <a:rect l="l" t="t" r="r" b="b"/>
            <a:pathLst>
              <a:path w="2784" h="1392">
                <a:moveTo>
                  <a:pt x="384" y="336"/>
                </a:moveTo>
                <a:lnTo>
                  <a:pt x="768" y="144"/>
                </a:lnTo>
                <a:lnTo>
                  <a:pt x="1488" y="0"/>
                </a:lnTo>
                <a:lnTo>
                  <a:pt x="2016" y="192"/>
                </a:lnTo>
                <a:lnTo>
                  <a:pt x="2592" y="384"/>
                </a:lnTo>
                <a:lnTo>
                  <a:pt x="2784" y="720"/>
                </a:lnTo>
                <a:lnTo>
                  <a:pt x="2544" y="1008"/>
                </a:lnTo>
                <a:lnTo>
                  <a:pt x="1824" y="1392"/>
                </a:lnTo>
                <a:lnTo>
                  <a:pt x="1248" y="1296"/>
                </a:lnTo>
                <a:lnTo>
                  <a:pt x="768" y="1344"/>
                </a:lnTo>
                <a:lnTo>
                  <a:pt x="0" y="864"/>
                </a:lnTo>
                <a:lnTo>
                  <a:pt x="192" y="576"/>
                </a:lnTo>
                <a:lnTo>
                  <a:pt x="384" y="336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e Rout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matia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00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5514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3048120"/>
            <a:ext cx="3810240" cy="327636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96" y="0"/>
                </a:moveTo>
                <a:lnTo>
                  <a:pt x="528" y="240"/>
                </a:lnTo>
                <a:lnTo>
                  <a:pt x="912" y="624"/>
                </a:lnTo>
                <a:lnTo>
                  <a:pt x="1200" y="1008"/>
                </a:lnTo>
                <a:lnTo>
                  <a:pt x="1776" y="1344"/>
                </a:lnTo>
                <a:lnTo>
                  <a:pt x="2208" y="1632"/>
                </a:lnTo>
                <a:lnTo>
                  <a:pt x="2400" y="1872"/>
                </a:lnTo>
                <a:lnTo>
                  <a:pt x="2256" y="2064"/>
                </a:lnTo>
                <a:lnTo>
                  <a:pt x="1872" y="2064"/>
                </a:lnTo>
                <a:lnTo>
                  <a:pt x="1056" y="1440"/>
                </a:lnTo>
                <a:lnTo>
                  <a:pt x="480" y="912"/>
                </a:lnTo>
                <a:lnTo>
                  <a:pt x="96" y="576"/>
                </a:lnTo>
                <a:lnTo>
                  <a:pt x="0" y="240"/>
                </a:lnTo>
                <a:lnTo>
                  <a:pt x="96" y="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riatic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00-1100 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2296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ly 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55308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ly 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109520"/>
            <a:ext cx="8305920" cy="551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7:12:17Z</dcterms:created>
  <dc:creator>Fabio Carrera</dc:creator>
  <dc:description/>
  <dc:language>en-US</dc:language>
  <cp:lastModifiedBy> </cp:lastModifiedBy>
  <dcterms:modified xsi:type="dcterms:W3CDTF">2003-01-17T01:25:32Z</dcterms:modified>
  <cp:revision>17</cp:revision>
  <dc:subject/>
  <dc:title>No Slide Title</dc:title>
</cp:coreProperties>
</file>